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3.png" ContentType="image/png"/>
  <Override PartName="/ppt/media/image51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5.png" ContentType="image/png"/>
  <Override PartName="/ppt/media/image42.gif" ContentType="image/gif"/>
  <Override PartName="/ppt/media/image35.png" ContentType="image/png"/>
  <Override PartName="/ppt/media/image28.png" ContentType="image/png"/>
  <Override PartName="/ppt/media/image29.png" ContentType="image/png"/>
  <Override PartName="/ppt/media/image27.jpeg" ContentType="image/jpeg"/>
  <Override PartName="/ppt/media/image52.png" ContentType="image/png"/>
  <Override PartName="/ppt/media/image26.jpeg" ContentType="image/jpeg"/>
  <Override PartName="/ppt/media/image18.jpeg" ContentType="image/jpeg"/>
  <Override PartName="/ppt/media/image15.png" ContentType="image/png"/>
  <Override PartName="/ppt/media/image60.png" ContentType="image/png"/>
  <Override PartName="/ppt/media/image6.jpeg" ContentType="image/jpeg"/>
  <Override PartName="/ppt/media/image23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20.png" ContentType="image/png"/>
  <Override PartName="/ppt/media/image57.png" ContentType="image/png"/>
  <Override PartName="/ppt/media/image14.jpeg" ContentType="image/jpeg"/>
  <Override PartName="/ppt/media/image54.png" ContentType="image/png"/>
  <Override PartName="/ppt/media/image17.gif" ContentType="image/gif"/>
  <Override PartName="/ppt/media/image8.png" ContentType="image/png"/>
  <Override PartName="/ppt/media/image38.png" ContentType="image/png"/>
  <Override PartName="/ppt/media/image13.png" ContentType="image/png"/>
  <Override PartName="/ppt/media/image50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31.png" ContentType="image/png"/>
  <Override PartName="/ppt/media/image33.png" ContentType="image/png"/>
  <Override PartName="/ppt/media/image36.png" ContentType="image/png"/>
  <Override PartName="/ppt/media/image3.jpeg" ContentType="image/jpeg"/>
  <Override PartName="/ppt/media/image41.png" ContentType="image/png"/>
  <Override PartName="/ppt/media/image40.gif" ContentType="image/gif"/>
  <Override PartName="/ppt/media/image43.png" ContentType="image/png"/>
  <Override PartName="/ppt/media/image44.png" ContentType="image/png"/>
  <Override PartName="/ppt/media/image45.jpeg" ContentType="image/jpeg"/>
  <Override PartName="/ppt/media/image55.png" ContentType="image/png"/>
  <Override PartName="/ppt/media/image58.png" ContentType="image/png"/>
  <Override PartName="/ppt/media/image46.jpeg" ContentType="image/jpeg"/>
  <Override PartName="/ppt/media/image4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4639-4FA9-445D-B17E-40B177D8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B2C-7A36-4AD4-A822-F1266FD2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C34-9547-4442-BF1D-1322E699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B00C-D28C-440D-84A3-24F08E2F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A257-B7B9-48DA-916C-9A064D7B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91B-9FA6-465A-87CB-43FF87C4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7575-8083-4E33-BB82-F67E1CB2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438-4583-45B4-A51B-011E09D5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2A46-2506-4B36-B813-36CA369F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43C-5A8B-40E1-8141-3DE0006E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077-741C-4E8A-88C3-F46F4CB8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588-659F-4E72-97AE-F9144BA0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C93F-6F4B-4BEC-BBBB-46A29CCE9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9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gif"/><Relationship Id="rId3" Type="http://schemas.openxmlformats.org/officeDocument/2006/relationships/image" Target="../media/image43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11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29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9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gif"/><Relationship Id="rId3" Type="http://schemas.openxmlformats.org/officeDocument/2006/relationships/image" Target="../media/image43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60.png"/><Relationship Id="rId3" Type="http://schemas.openxmlformats.org/officeDocument/2006/relationships/image" Target="../media/image5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62.jpeg"/><Relationship Id="rId3" Type="http://schemas.openxmlformats.org/officeDocument/2006/relationships/image" Target="../media/image11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9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gif"/><Relationship Id="rId3" Type="http://schemas.openxmlformats.org/officeDocument/2006/relationships/image" Target="../media/image43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1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unny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162920" cy="3738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6960" y="5486400"/>
            <a:ext cx="39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’s a little bit funn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638680" y="502920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0120" y="2482920"/>
            <a:ext cx="70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  you     can      tell      everyb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38320" y="5073480"/>
            <a:ext cx="59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    is        your            so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74960" y="958680"/>
            <a:ext cx="1485720" cy="1486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718160" y="9586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546960" y="958680"/>
            <a:ext cx="1485720" cy="1486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498840" y="362592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984240" y="354960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5708520" y="3625920"/>
            <a:ext cx="1486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0840" y="2482920"/>
            <a:ext cx="632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    may   be    quite          si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52480" y="91440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374480" y="5257800"/>
            <a:ext cx="61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t    now    that it’s           d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019920" y="3657600"/>
            <a:ext cx="1485720" cy="1486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581280" y="3733920"/>
            <a:ext cx="1486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2000" y="2362320"/>
            <a:ext cx="7925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         hope         you         don’t       mi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        hope          you          don’t      mi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52480" y="33526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80880" y="10666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04920" y="3200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324480" y="8380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6248520" y="304812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3581280" y="99072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3581280" y="31240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encil_animation_yellow_background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5791320" cy="3684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35880" y="5105520"/>
            <a:ext cx="48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t I put down in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97800" y="2971800"/>
            <a:ext cx="659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     wonderful   life    is whi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’re            in the           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earth_animation" descr=""/>
          <p:cNvPicPr/>
          <p:nvPr/>
        </p:nvPicPr>
        <p:blipFill>
          <a:blip r:embed="rId2"/>
          <a:stretch/>
        </p:blipFill>
        <p:spPr>
          <a:xfrm>
            <a:off x="5715000" y="4114800"/>
            <a:ext cx="2514600" cy="145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657600" y="411480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5" name="horsham%20stone%20roof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114800" cy="2284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50080" y="4724280"/>
            <a:ext cx="61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sat                           on the roo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mossyroof640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4280" y="4952880"/>
            <a:ext cx="72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kicked off                   some mo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71360" y="1447920"/>
            <a:ext cx="7223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ll a few of the verses, well they’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tten me quite cro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aby_cry_d" descr=""/>
          <p:cNvPicPr/>
          <p:nvPr/>
        </p:nvPicPr>
        <p:blipFill>
          <a:blip r:embed="rId1"/>
          <a:stretch/>
        </p:blipFill>
        <p:spPr>
          <a:xfrm>
            <a:off x="5638680" y="2819520"/>
            <a:ext cx="2559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sun-crnr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3979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68480" y="1838160"/>
            <a:ext cx="4917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t the sun’s been qui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ind   while    I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ote       this           so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62120" y="262908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76720" y="23623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990720" y="46483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724280" y="45720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7640" y="2362320"/>
            <a:ext cx="711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’s for     people           like          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t keep it               turned 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eople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2819160" cy="1887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781680" y="8380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952880" y="419112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676520" y="38862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ove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7200" y="5791320"/>
            <a:ext cx="54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feeling                ins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38560" y="5334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362640" y="5181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0120" y="2482920"/>
            <a:ext cx="70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  you     can      tell      everyb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38320" y="5073480"/>
            <a:ext cx="59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    is        your            so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974960" y="958680"/>
            <a:ext cx="1485720" cy="1486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718160" y="9586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546960" y="958680"/>
            <a:ext cx="1485720" cy="1486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498840" y="362592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984240" y="354960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5708520" y="3625920"/>
            <a:ext cx="1486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0840" y="2482920"/>
            <a:ext cx="632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    may   be    quite          si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52480" y="91440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374480" y="5257800"/>
            <a:ext cx="61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t    now    that it’s           d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019920" y="3657600"/>
            <a:ext cx="1485720" cy="1486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581280" y="3733920"/>
            <a:ext cx="1486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12000" y="2362320"/>
            <a:ext cx="7925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         hope         you         don’t       mi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        hope          you          don’t      mi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752480" y="33526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80880" y="10666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04920" y="3200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6324480" y="8380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6248520" y="304812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3581280" y="99072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>
            <a:off x="3581280" y="31240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encil_animation_yellow_background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5791320" cy="3684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135880" y="5105520"/>
            <a:ext cx="48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t I put down in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97800" y="2971800"/>
            <a:ext cx="659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     wonderful   life    is whi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’re            in the           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earth_animation" descr=""/>
          <p:cNvPicPr/>
          <p:nvPr/>
        </p:nvPicPr>
        <p:blipFill>
          <a:blip r:embed="rId2"/>
          <a:stretch/>
        </p:blipFill>
        <p:spPr>
          <a:xfrm>
            <a:off x="5715000" y="4114800"/>
            <a:ext cx="2514600" cy="1459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657600" y="411480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9040" y="2286000"/>
            <a:ext cx="65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 excuse me                  forg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334120" y="533520"/>
            <a:ext cx="1676160" cy="1676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12360" y="4876920"/>
            <a:ext cx="60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t    these things               I 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257800" y="33526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93240" y="3809880"/>
            <a:ext cx="72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          see          I’ve       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971800" y="99072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629400" y="8380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4724280" y="9907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974680" y="5638680"/>
            <a:ext cx="30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y’re gr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457200"/>
            <a:ext cx="7315200" cy="4952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974680" y="563868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 they’re b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457200"/>
            <a:ext cx="7315200" cy="4952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679040" y="3581280"/>
            <a:ext cx="514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yway the thing is what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lly mean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hide-and-seek" descr=""/>
          <p:cNvPicPr/>
          <p:nvPr/>
        </p:nvPicPr>
        <p:blipFill>
          <a:blip r:embed="rId1"/>
          <a:stretch/>
        </p:blipFill>
        <p:spPr>
          <a:xfrm>
            <a:off x="1752480" y="152280"/>
            <a:ext cx="5410440" cy="4057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8680" y="4800600"/>
            <a:ext cx="708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’m              not                one of th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 can easily h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600200" y="42670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86200" y="42670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724280" y="5486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2200" y="3200400"/>
            <a:ext cx="649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rs are the           sweetest ey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’ve      ever        se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182" name="sad-eyes-big" descr=""/>
          <p:cNvPicPr/>
          <p:nvPr/>
        </p:nvPicPr>
        <p:blipFill>
          <a:blip r:embed="rId2"/>
          <a:stretch/>
        </p:blipFill>
        <p:spPr>
          <a:xfrm>
            <a:off x="4038480" y="228600"/>
            <a:ext cx="4267440" cy="2846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066680" y="44956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381560" y="4457880"/>
            <a:ext cx="14857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40120" y="2482920"/>
            <a:ext cx="70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  you     can      tell      everyb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38320" y="5073480"/>
            <a:ext cx="59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    is        your            so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974960" y="958680"/>
            <a:ext cx="1485720" cy="1486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718160" y="9586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546960" y="958680"/>
            <a:ext cx="1485720" cy="1486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498840" y="362592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984240" y="354960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5708520" y="3625920"/>
            <a:ext cx="1486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0840" y="2482920"/>
            <a:ext cx="632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    may   be    quite          si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752480" y="91440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374480" y="5257800"/>
            <a:ext cx="61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t    now    that it’s           d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019920" y="3657600"/>
            <a:ext cx="1485720" cy="1486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581280" y="3733920"/>
            <a:ext cx="1486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12000" y="2362320"/>
            <a:ext cx="7925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         hope         you         don’t       mi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        hope          you          don’t      mi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752480" y="33526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380880" y="10666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304920" y="3200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6324480" y="8380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6248520" y="304812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7"/>
          <a:stretch/>
        </p:blipFill>
        <p:spPr>
          <a:xfrm>
            <a:off x="3581280" y="99072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3581280" y="31240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encil_animation_yellow_background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5791320" cy="3684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135880" y="5105520"/>
            <a:ext cx="48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t I put down in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297800" y="2971800"/>
            <a:ext cx="659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     wonderful   life    is whi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’re            in the           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earth_animation" descr=""/>
          <p:cNvPicPr/>
          <p:nvPr/>
        </p:nvPicPr>
        <p:blipFill>
          <a:blip r:embed="rId2"/>
          <a:stretch/>
        </p:blipFill>
        <p:spPr>
          <a:xfrm>
            <a:off x="5715000" y="4114800"/>
            <a:ext cx="2514600" cy="1459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657600" y="411480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money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47328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9400" y="4800600"/>
            <a:ext cx="796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             don’t               have much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t boy if I d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66680" y="44197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619440" y="434340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88620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mansion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6172200" cy="3697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7960" y="4800600"/>
            <a:ext cx="70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’d              buy                 a big ho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 we both              could li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71600" y="4419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48040" y="40384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733920" y="53341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culptor" descr="RETURN TO THE MAIN SCULPTURE PAGE"/>
          <p:cNvPicPr/>
          <p:nvPr/>
        </p:nvPicPr>
        <p:blipFill>
          <a:blip r:embed="rId1"/>
          <a:stretch/>
        </p:blipFill>
        <p:spPr>
          <a:xfrm>
            <a:off x="2209680" y="30492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70280" y="5149800"/>
            <a:ext cx="69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I was a sculptor, but then again, 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ath_group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5257800" cy="3508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16920" y="4495680"/>
            <a:ext cx="768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 a man            who sells potions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 traveling sh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819520" y="4191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391520" y="41148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86200" y="7621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4640" y="2819520"/>
            <a:ext cx="53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       know      it’s not 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905120" y="990720"/>
            <a:ext cx="1485720" cy="1485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9040" y="5257800"/>
            <a:ext cx="73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t it’s the     best           I          can 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048120" y="3809880"/>
            <a:ext cx="1485720" cy="1486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800600" y="39625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6477120" y="3733920"/>
            <a:ext cx="14857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gift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429000" cy="2485800"/>
          </a:xfrm>
          <a:prstGeom prst="rect">
            <a:avLst/>
          </a:prstGeom>
          <a:ln w="0">
            <a:noFill/>
          </a:ln>
        </p:spPr>
      </p:pic>
      <p:pic>
        <p:nvPicPr>
          <p:cNvPr id="79" name="elton_video" descr=""/>
          <p:cNvPicPr/>
          <p:nvPr/>
        </p:nvPicPr>
        <p:blipFill>
          <a:blip r:embed="rId2"/>
          <a:stretch/>
        </p:blipFill>
        <p:spPr>
          <a:xfrm>
            <a:off x="5943600" y="533520"/>
            <a:ext cx="2195640" cy="3504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3920" y="4114800"/>
            <a:ext cx="75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y gift                                   is my so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7240" y="58356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         this one’s         for    yo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971800" y="4724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248520" y="48006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6:49:24Z</dcterms:created>
  <dc:creator>Carol Shockley</dc:creator>
  <dc:description/>
  <dc:language>en-US</dc:language>
  <cp:lastModifiedBy>Carol Shockley</cp:lastModifiedBy>
  <dcterms:modified xsi:type="dcterms:W3CDTF">2002-10-31T20:25:07Z</dcterms:modified>
  <cp:revision>20</cp:revision>
  <dc:subject/>
  <dc:title>PowerPoint Presentation</dc:title>
</cp:coreProperties>
</file>